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C002F-CAAE-428A-9CD4-3F4BA5266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0B2C9-BF9B-4EC5-9F16-E86913804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B3222-41AB-49C0-B298-219626AA9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FA4CB-8EBB-41FC-9613-33D90E982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DBB54-483F-4439-9FA4-455F42BD3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B9651-25CC-42D0-B133-B9A7BF548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3E5D0-77DC-4EE0-82B8-6B128A130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03671-C7FC-4C45-94D9-F7CDE3592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110BE-5D26-4C48-AF2D-D2A632157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8D0CC-B6EB-4436-B9B3-893F9BC3F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76A02-2F61-4853-B5F1-BE8C7EC1D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8527D-9C66-4C29-8E10-C65D40EB7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79265-2876-4711-A733-63B2AB143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53616-E693-4710-9A6E-8802E2287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AF7FA-58B7-478C-8EE2-5548A25FD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0D208-87A1-4776-AF16-6CCD59CBE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E62BA-55CE-42C3-8436-BC67EA5A9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E026A-2C4D-461C-80CA-5A9B01531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D2633-FFFD-4F79-B035-46DCDC33E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01575-A607-462B-BF81-9229777D5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F9C35-D5F3-47EA-BC90-683844ADC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C5A6-7A27-4FED-9939-7EA9EA863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6FD77-4501-4ACF-9438-79067FAD9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DF05E-8A7F-4868-8BC3-0A1BF771A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DF8F-3376-40B0-81F7-5B0D36C7FC4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60D4-EBEE-4BB4-B6BF-FA525FA08AC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How to Write a Grant</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get funding from outside sources for your classro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how you can dovetail your program with what already exists.  For example, most schools own computers.  You probably won’t have to write a grant for that.  But you can write a grant for some special software that will enhance those computers or special equipment (e.g., MIDI keyboards plus software) that increase the usability of the compu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19" name="PlaceHolder 2"/>
          <p:cNvSpPr>
            <a:spLocks noGrp="1"/>
          </p:cNvSpPr>
          <p:nvPr>
            <p:ph/>
          </p:nvPr>
        </p:nvSpPr>
        <p:spPr>
          <a:xfrm>
            <a:off x="457200" y="1600200"/>
            <a:ext cx="830592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think about exactly how students will benefit from the program:</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benefits (use benchmark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itude/behavior benefi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eciation for others (e.g., appreciation for a culture along with relevant social studies benchmark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ty benefi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mplishment benefi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benefi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lict resolution benefits, getting along with ot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what you will need in order to do the program:</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ndable materials—art supplies, computer supplies, cleaning supplies, etc.</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anent materials—computer programs, books, musical instruments, etc.</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ist—visiting specialist to help with program—one time or several ti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how the program will really work: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is a one day program or something that happens over a long period of time?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s it going to look/feel?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other issues or events that will influence your program?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se questions to see if there are more materials you will need.  (For younger students, you might need to give them a snack if you develop a program that runs after school one day a week, so you will need to plan for th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Ready to Write</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off, think about the materials and expertise you need.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these are available locally?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these could be donated from local businesses?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ant is a lot more convincing if you can show that part of what you need has been donated by members of the community.  This includes material items and volunteer time.  This type of donation is called “in kind” fund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Ready to Write</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r first grant, I recommend writing a small one (less than $1000).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a huge project in mind that would cost more than $1000, consider how you could get one usable piece of it funded and then try for another piece later on.  If you want several instruments, try for one that you can use and then try for another kind later 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Ready to Write</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o your administrator.  This person has to be on board with your project before you begin writing.  If your administrator is opposed to your project, then you would have to turn back the money and that would not be a good idea.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school system may have a grant writer who can help you.</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your school system may have some requirements about grants, so the appropriate people need to know what you are up to.</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 monies are serious business.  You can end up on the 6 p.m. news if you mishandle them.  Make sure you know how your system deals with grants and that you have all the permission you ne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Ready to Writ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do a little research about the type of kids you are going to serve and the type of project you are going to do.  What types of programs benefit the population you have in mind?  What are the specific benefit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a little research on the type of school where you are teaching.  The Ohio Dept. of Education has statistics on all Ohio schools.  Whereever you are teaching, you should be able to find out information on the kids you are teaching.</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this information is to give your grant an air of authority.  You didn’t just dream up this project—you have some kind of idea that it is going to work just as you said it would because you have done your home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nt Writing 101</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remember the teacher who was a stickler for correctness?  Your name had to be on the upper right hand corner and everything had to be in the correct format?  If you had this kind of teacher, then you have had good training for writing a gra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rule for writing a good grant:  FOLLOW THE DIRECTIONS </a:t>
            </a:r>
            <a:r>
              <a:rPr b="0" lang="en-US" sz="3200" spc="-1" strike="noStrike" u="sng">
                <a:solidFill>
                  <a:srgbClr val="ffffff"/>
                </a:solidFill>
                <a:uFillTx/>
                <a:latin typeface="Arial"/>
              </a:rPr>
              <a:t>EXACTLY</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your audience.  The people who read grants are not necessarily teachers, so they will not know education jargon (e.g., ESL=English as a Second Language).  You need to explain what you are doing very clearly so that a non-educator will understand exactly what you intend to do and how you intend to do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is a grant?</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ant is money that is provided by a foundation or governmental agency for the purposes of accomplishing a particular projec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ations give money to better the world (or to better the image of the corporatio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s give money to allow expansion of servic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ts don’t pay for “bread and butter”—electricity or salaries of regular employe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ts pay for special, time-limited proje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grant readers are not moved by emotional arguments.  They ARE moved by well thought out logical arguments that are backed up with research.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 writers appreciate writing that they can understand and that is not condescending.  They appreciate writing that gets to the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 readers appreciate grants that have detail enough so they know that you have thought through the program very carefully.  Don’t ask for $500 to buy books and supplies.  Instead, be specific about what books and what supplies and what they will co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eneral, the first thing you should write when you are doing a grant are the goals and objectives.  This is the center of the grant and it is your plan for what will be accomplish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43" name=""/>
          <p:cNvSpPr/>
          <p:nvPr/>
        </p:nvSpPr>
        <p:spPr>
          <a:xfrm>
            <a:off x="2364840" y="304812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als &amp; Objectives</a:t>
            </a:r>
            <a:endParaRPr b="0" lang="en-US" sz="1800" spc="-1" strike="noStrike">
              <a:solidFill>
                <a:srgbClr val="ffffff"/>
              </a:solidFill>
              <a:latin typeface="Arial"/>
            </a:endParaRPr>
          </a:p>
        </p:txBody>
      </p:sp>
      <p:sp>
        <p:nvSpPr>
          <p:cNvPr id="144" name=""/>
          <p:cNvSpPr/>
          <p:nvPr/>
        </p:nvSpPr>
        <p:spPr>
          <a:xfrm>
            <a:off x="2212560" y="914400"/>
            <a:ext cx="236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ment of problem</a:t>
            </a:r>
            <a:endParaRPr b="0" lang="en-US" sz="1800" spc="-1" strike="noStrike">
              <a:solidFill>
                <a:srgbClr val="ffffff"/>
              </a:solidFill>
              <a:latin typeface="Arial"/>
            </a:endParaRPr>
          </a:p>
        </p:txBody>
      </p:sp>
      <p:sp>
        <p:nvSpPr>
          <p:cNvPr id="145" name=""/>
          <p:cNvSpPr/>
          <p:nvPr/>
        </p:nvSpPr>
        <p:spPr>
          <a:xfrm>
            <a:off x="2289600" y="190512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osed program</a:t>
            </a:r>
            <a:endParaRPr b="0" lang="en-US" sz="1800" spc="-1" strike="noStrike">
              <a:solidFill>
                <a:srgbClr val="ffffff"/>
              </a:solidFill>
              <a:latin typeface="Arial"/>
            </a:endParaRPr>
          </a:p>
        </p:txBody>
      </p:sp>
      <p:sp>
        <p:nvSpPr>
          <p:cNvPr id="146" name=""/>
          <p:cNvSpPr/>
          <p:nvPr/>
        </p:nvSpPr>
        <p:spPr>
          <a:xfrm>
            <a:off x="0" y="0"/>
            <a:ext cx="23018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chain of logic from the Statement of the Problem through the Proposed Program to the Objectives.  The Proposed Program needs to be the logical result of the Statement of the Problem and the Objectives need to be the logical result of the Proposed Program.</a:t>
            </a:r>
            <a:endParaRPr b="0" lang="en-US" sz="1800" spc="-1" strike="noStrike">
              <a:solidFill>
                <a:srgbClr val="ffffff"/>
              </a:solidFill>
              <a:latin typeface="Arial"/>
            </a:endParaRPr>
          </a:p>
        </p:txBody>
      </p:sp>
      <p:sp>
        <p:nvSpPr>
          <p:cNvPr id="147" name=""/>
          <p:cNvSpPr/>
          <p:nvPr/>
        </p:nvSpPr>
        <p:spPr>
          <a:xfrm>
            <a:off x="3276720" y="13716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276720" y="23623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800600" y="114300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risk students are often absent.  They are not engaged in school.</a:t>
            </a:r>
            <a:endParaRPr b="0" lang="en-US" sz="1800" spc="-1" strike="noStrike">
              <a:solidFill>
                <a:srgbClr val="ffffff"/>
              </a:solidFill>
              <a:latin typeface="Arial"/>
            </a:endParaRPr>
          </a:p>
        </p:txBody>
      </p:sp>
      <p:sp>
        <p:nvSpPr>
          <p:cNvPr id="150" name=""/>
          <p:cNvSpPr/>
          <p:nvPr/>
        </p:nvSpPr>
        <p:spPr>
          <a:xfrm>
            <a:off x="4800600" y="2209680"/>
            <a:ext cx="367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reation of a program for at-risk students that is engaging (e.g., steel drum group).</a:t>
            </a:r>
            <a:endParaRPr b="0" lang="en-US" sz="1800" spc="-1" strike="noStrike">
              <a:solidFill>
                <a:srgbClr val="ffffff"/>
              </a:solidFill>
              <a:latin typeface="Arial"/>
            </a:endParaRPr>
          </a:p>
        </p:txBody>
      </p:sp>
      <p:sp>
        <p:nvSpPr>
          <p:cNvPr id="151" name=""/>
          <p:cNvSpPr/>
          <p:nvPr/>
        </p:nvSpPr>
        <p:spPr>
          <a:xfrm>
            <a:off x="0" y="4267080"/>
            <a:ext cx="9144000" cy="2014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al:  Steel drum group will be creat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  Group will meet during study hall two times a week.</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  Twenty students will be able to be involv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  Students with poor attendance record will be selected &amp; invit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al:  Students involved in steel drum group will improve rate of school attendanc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  Students involved in group will attend school at least on the days of rehearsal.</a:t>
            </a:r>
            <a:endParaRPr b="0" lang="en-US" sz="1800" spc="-1" strike="noStrike">
              <a:solidFill>
                <a:srgbClr val="ffffff"/>
              </a:solidFill>
              <a:latin typeface="Arial"/>
            </a:endParaRPr>
          </a:p>
        </p:txBody>
      </p:sp>
      <p:sp>
        <p:nvSpPr>
          <p:cNvPr id="152" name=""/>
          <p:cNvSpPr/>
          <p:nvPr/>
        </p:nvSpPr>
        <p:spPr>
          <a:xfrm>
            <a:off x="3886200" y="1447920"/>
            <a:ext cx="8380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3809880" y="25146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657600" y="35812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36440" y="6216480"/>
            <a:ext cx="900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ssues identified in the statement of the problem are addressed in the proposed program.  The characteristics of the proposed program are part of the objectiv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oals and Objectives</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al is a statement of what you are going to 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bjective is a statement about how you will do 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r goal is to be able to drive a car, then your objectives will include passing the written test, taking a certain amount of lessons, and then passing the driving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iting</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you have written your goals and objectives, then you can write the other parts of the grant narrative.  Having written the goals, you can shape the rest of the narrative so that it leads logically to the goals you have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sessment</a:t>
            </a: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grants ask you to consider how you will know if your grant project is a success.  Be sure you write your goals so that you can collect the right data.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if your project is designed to serve 25 students, promise a few less because it is better to serve a few extra than a few less.  Remember that kids can be absent or they can leave the school system.  If you were depending on that student for fulfillment of your grant, you might be in trou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sessment</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turn data collection into a pain for yourself or others.  Consider data that is easy to collect when you set your goals.  Attendance is easy to collect.  Pre-tests and post-tests might be more difficult to obta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 complete list of what things will cost.  What books will you order?  How much does that computer program cost?  How much does it cost to take kids to the symphony or to COSI?  What will bus transportation cost?  What other costs will be associated with a field trip?  For instance, if it is an all day field trip, how will you feed the kids lun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kind </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list donations that will help your project and how much those are worth.  If the local garden center is giving you seeds and mulch for your class garden, list the name of the donor, what they are giving, and the monetary worth of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do I apply?</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pply for a grant, you need to find a “request for proposals” that fits your circumstanc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on the web.  Search terms to consider:  education, grant, arts, elementary, foundation.  You could also describe the characteristics of the school where you hope to teach—e.g., rural, urb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tters of Support</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grants will ask you for letters of support from those who might be involved in your program.  For instance, you would need a letter from your principal, from your district, from local businesses that are donating items, and maybe even a parent whose child is involved in your project. (These are not required for the class assignment, but you need to be aware of them).  Solicit these as quickly as you can—when you first start to write the gr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jection</a:t>
            </a:r>
            <a:endParaRPr b="0" lang="en-US" sz="4400" spc="-1" strike="noStrike">
              <a:solidFill>
                <a:srgbClr val="b2b2b2"/>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get rejected.  Don’t worry about that.  Look for somewhere else to send your grant and then REWRITE it to meet the requirements of that pla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mmary</a:t>
            </a:r>
            <a:endParaRPr b="0" lang="en-US" sz="4400" spc="-1" strike="noStrike">
              <a:solidFill>
                <a:srgbClr val="b2b2b2"/>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 allow you to enrich your classroom, no matter how little money your district h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writing skills allow you to move around in the school system—they enhance your professional value.  Some people make a living writing grants and some do it part-time to supplement other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an Idea</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thing to do is to think about what you want to accomplish in your classroom.  Make a list of possible projects that would benefit your student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short term and long term.  For example, getting a classroom set of musical instruments would benefit students for a long time (the life of the instruments).  Getting a new special computer program would benefit students for 3-4 years.  Getting funding to go on a special field trip would benefit one group of stud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an Idea</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re special events coming up in your community?  A grant could help you and your students learn about your community’s history.</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r students have special needs?  For example, if your school has students that are often truant, establishing a drumming group might help with attendance and attitu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an Idea</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a special program available to schools?  For example, you could apply for funds to bring musicians or other artists into your school for a special projec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your school have a resource that could be used?  For example, you could write a grant to turn a piece of school property into a pond or a special gard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etting an Idea</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a topic that your students have really loved studying?  Would there be something extra you could do on that topic with some extra money?  For example, taking a field trip, having a specialist visit, buying some extra resources to have available at the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you have a basic idea, you need to contact others in your school for three reasons.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you need to have permission and cooperation to pursue your idea.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the people you talk to may have some ways of making your idea better.  Solicit opinions and other people’s ideas.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many grants require letters of cooperation from people involved and you will need them to be willing to write th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eating a Program</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from several perspectives.  For instance, even if your program is for a short term event, if you add $500 for buying books for the school library about the subject, then students will benefit from the program for a long time.  Therefore, not only will you want money for the immediate program, but also for items that would add to the program in the long ru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20:09:37Z</dcterms:created>
  <dc:creator>Capital University</dc:creator>
  <dc:description/>
  <dc:language>en-US</dc:language>
  <cp:lastModifiedBy>Capital University</cp:lastModifiedBy>
  <dcterms:modified xsi:type="dcterms:W3CDTF">2005-09-26T21:14:42Z</dcterms:modified>
  <cp:revision>34</cp:revision>
  <dc:subject/>
  <dc:title>How to Write a Grant</dc:title>
</cp:coreProperties>
</file>